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7DF-7266-4C06-AF50-AA32A4D9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AE0-4522-40BF-9CDA-8C9BBB13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567-208F-4A60-A8AF-802D0767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A2D-0EEC-4117-807E-1B75945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3CEA-8309-4043-A29F-0521BFE1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1B11-0A67-4C9A-917A-10B44622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CC17-4D52-4B89-AD22-ED93880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076-D389-49E6-8398-7C4D379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350C-7DA6-4D38-A7D2-9C04869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8DFE-14C3-4C4C-B654-EB939B99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AB6-8C92-4B87-892B-BA8F411A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759-9D40-49A2-B420-6DBCA3A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551-6D60-4050-BE59-B75AF2F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B14-FB1E-4B84-A770-D89BE6D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75F-B9EB-4EED-A366-348A48E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FFB-5B16-4EFC-AFDC-A71B2C72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0109-DDE8-417F-A5FF-A8DB55BD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F756-DE25-477C-96D8-5FD857AF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75B2-DB38-4446-929C-EAD035F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F320-67E6-446F-A059-29DED295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6A5B-5F59-46B4-8047-EC07BE4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144F-1642-4895-915A-38AB03C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679-A936-40B3-A934-136C75B3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2733-91CA-49B3-9659-AB7A40A8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2ADF-8C4D-44E9-A00A-5885283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EBA0-0C68-4E76-8299-F34FC5E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6E56-19CF-4BB2-9FAF-201C378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3189-74D8-439F-9B47-3DF78D9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7A27-0DC3-494A-91A8-F24C3879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C691-26FD-4A7E-81B2-65E6596E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78BC-F658-49D3-8DCF-AF80518F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F2A5-C933-44BF-9559-C3CCEE3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96CC-CF06-4D09-9D92-38D12A76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D05-BF12-4DA5-9851-793F285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7920-8D6B-4EBE-8FE0-1451CB1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F4BF-9DBF-4B79-AF07-9D9AC33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E84E-C641-47ED-A0A6-10C04D85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63EC-FFE3-4228-97AF-3D33C2E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BD61-38C9-46F4-8F5E-B88329A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2B23-6272-449A-9D86-DDD109C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F76C-3EF4-45B8-8135-16B348D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C3CB-1D8D-4E82-B9DA-3D2E1BBB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DB50-2B59-46B4-A7CC-E624E59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946F-CA97-47BA-8D01-DF794065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EC2-4A82-43CE-BE31-8037DB42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CA189-46CA-450E-9317-635766B2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41FF-4982-48A3-B659-8697330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4C68-CB3C-4AE8-B9B2-44CA31C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5B2D-AF38-4B29-9306-BEABF28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FE8D-3C30-41F2-9B85-FE612CF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C3C9-14F4-4F60-8620-CFB6C2F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1C5E8-4A1C-4952-B75B-95D6CED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8F10-E018-4526-903D-F88891B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CD62-22F0-4F0B-8C83-CD529D9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F52E-7C50-4D34-9BE7-A1C163EE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267-C922-4B64-86D0-875CEF69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85F1-9967-4452-B2D7-20B9F6B8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E54A-269C-48F0-909F-8349C700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CDBFB-AF11-4901-AF19-41A54EB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68DAF-E886-471F-8047-AD952F4E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69B8-9D3E-40FA-A600-5DC1599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2F02-56FA-4146-BA6F-F986CE5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9BE5-52CB-42ED-9C54-E701F86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A968-9B8B-4BC8-A19F-394B6600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4FDC-B56A-4346-9DE2-ABFEA35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14F8-DBDB-48C3-A365-BCBA4BE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9AD-BDF7-49B3-BCA3-CE1E398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AB9B-5F35-42A1-8ACB-7A7930B3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8C55-A6FD-407B-91C9-7A8FE96B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F140B-F90A-4A57-A399-E0F28A74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D2BE6-DB0D-4D21-91FB-DB25A0FD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53A4-6361-4731-BB9E-51DECBF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B0B4-E1CC-4F63-AA38-C8DB149B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347E-ECAA-4BA5-BF6C-C4D7323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32D0-49C9-4873-84A1-33415841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DD86-FA3A-47DD-87A8-61BAB3A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F20E-6BD6-4D60-B6FE-FF64995E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4BD-1E72-4ABC-AA99-FF00809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F0A3-4916-40E6-AB4C-6C1128A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2DC74-0A02-4C2B-8746-1497A66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8AAD7-A257-4A67-B8A5-0C1EF992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6882A-48E7-4BD8-BA6B-5DF616D7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AFD5-9AE9-4DE3-9826-BE9FF9A7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F01C-2730-4EEC-80FE-5761A5F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8FBFE-C87D-47C5-BCF0-4EFA8FD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4E45-7FC9-42D2-AFBB-B747816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84FD2-FADF-4DC0-91A7-2AC3646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3DCC-C290-491F-883D-00BB2A24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AF5-975E-44F5-B062-204EB8D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CAC8-1CE3-45C1-BDFF-428D590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DEEA-0B8B-4996-A926-745CFE5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84D8-5E30-4D4E-9B39-B094ECD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E4AA-ABF5-4BE6-816D-0F130C7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7CFB7-DD72-4474-9A3D-56C64B5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9246E-34A9-42C4-BE3B-2BF79FFC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732C-5A87-4A89-9F4D-A7E07F8F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C0C-FBA0-4BC4-97CA-C8C89E108E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546-99D1-4BA2-9F48-7DE5145DBA9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56A-31C1-4783-8E0D-F5B3F5C840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C8DE-FA6E-4270-91E7-0129FFB7A00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EC4-C8D0-4B7B-A3EA-01B096B7F0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697-098D-4C7A-9E38-89AE643197B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562-EB8F-4A08-B490-1C65FED46F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99A-ED58-42C8-BA4B-BF7D217ADCB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eopardylabs.com/" TargetMode="External"/><Relationship Id="rId2" Type="http://schemas.openxmlformats.org/officeDocument/2006/relationships/hyperlink" Target="http://www.superteachertools.com/jeopardy/" TargetMode="External"/><Relationship Id="rId3" Type="http://schemas.openxmlformats.org/officeDocument/2006/relationships/hyperlink" Target="http://classtools.ne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46160" y="835200"/>
            <a:ext cx="9004320" cy="2073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akeview Academ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ummer Technology Instit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0880" y="160020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Jeopardy Lab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Flash Jeopar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Class Too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ashcard Mach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ence Classroom Ru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4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1752480" y="46483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facstaff.uww.edu/jonesd/games/inde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people.uncw.edu/ertzbergerj/ppt_games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superteachertools.com/jeopardy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 Vocabulary “Who Wants to be a …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 Vocabulary Jeopardy f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oll of Thunder, Hear My Cry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toolsforeducators.com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56:47Z</dcterms:created>
  <dc:creator>Fac - Montgomery,Bruce</dc:creator>
  <dc:description/>
  <dc:language>en-US</dc:language>
  <cp:lastModifiedBy>Fac - Montgomery,Bruce</cp:lastModifiedBy>
  <dcterms:modified xsi:type="dcterms:W3CDTF">2010-07-23T22:09:09Z</dcterms:modified>
  <cp:revision>21</cp:revision>
  <dc:subject/>
  <dc:title>Slide 1</dc:title>
</cp:coreProperties>
</file>